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517-D1CA-4B51-A4C2-4EC93CB6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2A1-2F2C-456E-B5C1-B37B5E4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86F-F06A-45F5-9A21-1F18480E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700-468A-4521-84F5-B34A5F73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FF45-280B-4731-8871-0133738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7A4F-3F49-4211-9A55-45F61CB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F57-938F-4A28-9ACD-056A8308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29A9-461D-4E37-967A-D366595C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044A-2554-49EC-9332-2159AFEE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5A4C-8CBC-4126-8CBB-840F019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4DA-D14B-4601-AF2E-78C9171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6E6-4D57-4256-86F4-831B4E34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28E9-8ACC-4C14-9E99-BE26D30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73B-FB59-49DA-9462-16256CD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B81-E75D-4DA4-97BE-2C180E42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2B2-25EF-49EC-9844-2A7BC8BC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4E4-9AA2-4329-B36E-DF1B0EB4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99C-18B7-429F-86FB-9A1B4E89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7E5-086B-4A0D-8718-335E3A1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BC2-1FD2-4E86-9D28-1965F05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A5A-E1BD-49D1-9E16-422F8AED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1C9-DD6F-43AC-B951-7597448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A8D-BA4D-435F-A05C-431CA77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E2D-9BCC-46D9-8E8C-6A1C942A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90B-CE0B-4248-9561-620F75B3B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13F-C986-401C-AE67-60E91A1DEC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89000"/>
            <a:ext cx="807732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ance  del rey moro que perdió Alham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romance fronterizo c. 1482. Es la última guerra de Grana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aseábase el rey m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la ciudad de Gran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de la puerta de El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asta la de Vivarrambla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tas le fueron ven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ómo Alhama era g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cartas echó en el fu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al mensajero mat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chó mano a sus cab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las sus barbas mes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0"/>
            <a:ext cx="48243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eóse de 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 en un caballo cabal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 el Zacaín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bido había a la Alhamb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ndó tocar sus tromp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s añafiles de pl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que lo oyesen los m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que andaban por el 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tro a cuatro, cinco a cin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juntado se ha gran co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lí habló un viejo alfaqu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barba bellida y c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¿Para qué nos llama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 qué fue nuestra llam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620640"/>
            <a:ext cx="50403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Para que sepáis, ami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gran pérdida de Alh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¡Bien se te emplea, buen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taste los Bencerraj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Córdoba la nomb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eso merece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na pena muy dobl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te pierdas tú y el 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que se acabe G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44:43Z</dcterms:created>
  <dc:creator> </dc:creator>
  <dc:description/>
  <dc:language>en-US</dc:language>
  <cp:lastModifiedBy>-</cp:lastModifiedBy>
  <dcterms:modified xsi:type="dcterms:W3CDTF">2008-10-06T23:34:48Z</dcterms:modified>
  <cp:revision>8</cp:revision>
  <dc:subject/>
  <dc:title>Diapositiva 1</dc:title>
</cp:coreProperties>
</file>